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8B9-AF04-4E99-8ABA-2B71ABEB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EEA-A1AE-4F28-AE51-C969BECF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D5B-8F37-45A9-BB29-8FD0245E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1AD-ACCC-4AC9-97B3-8C88070F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3AE-804D-46F0-885D-9D7BA755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365F-F3BE-4848-8F0A-97981139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A599-1F2E-4B2B-832B-D1AE68F5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49D7-DA1F-42CF-86CB-C2AE29E9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BCB7-C296-4268-AEBC-131551BC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8B4D-E960-4C30-B5B3-ADB5A0CD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65F6-B6FB-4BC9-A4E8-2646A904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000-710D-4016-84C0-4BE3FA1C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5CB4-E903-44E4-99E3-4717010E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1E64-8698-4224-978D-4922E926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20BC-013F-47C7-9D3C-EBA1B253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4EF3-BD56-4814-878F-9F124397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524C-6CB0-4AFA-A0FC-4A77A1C5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D5F-9151-4AB3-A3FB-9E8D73AF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A57-2FBD-4375-B525-5D634978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C29-DE11-4D80-9A7E-E83A04F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812-0E74-424B-BF8D-98104884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94A-B93C-4F54-9869-465C129E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378-4B98-439D-884E-71061E4F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F60-E8A4-4658-9EF4-C6A2A0E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BA2C-2239-4DDF-98E9-EAE3F6895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036E-EC5D-4C67-887A-DB54EF656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5.2:  The Age of the Railroad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owth and consolidation of the RR influence expansion of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nscontinental RR = Interconnectedness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RR impact American socie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.  Robber Bar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men who practiced questionable business practices gaining huge personal 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grants were more profitable than  operating RR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235320" y="2084400"/>
            <a:ext cx="9144000" cy="360"/>
          </a:xfrm>
          <a:prstGeom prst="rect">
            <a:avLst/>
          </a:prstGeom>
          <a:solidFill>
            <a:srgbClr val="ff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170px-JohnPierpontMorgan"/>
          <p:cNvPicPr/>
          <p:nvPr/>
        </p:nvPicPr>
        <p:blipFill>
          <a:blip r:embed="rId2"/>
          <a:stretch/>
        </p:blipFill>
        <p:spPr>
          <a:xfrm>
            <a:off x="5562720" y="609480"/>
            <a:ext cx="1942920" cy="25495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2886120" y="1871640"/>
            <a:ext cx="9144000" cy="360"/>
          </a:xfrm>
          <a:prstGeom prst="rect">
            <a:avLst/>
          </a:prstGeom>
          <a:solidFill>
            <a:srgbClr val="ff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225px-Andrew_Carnegie%2C_three-quarter_length_portrait%2C_seated%2C_facing_slightly_left%2C_1913"/>
          <p:cNvPicPr/>
          <p:nvPr/>
        </p:nvPicPr>
        <p:blipFill>
          <a:blip r:embed="rId3"/>
          <a:stretch/>
        </p:blipFill>
        <p:spPr>
          <a:xfrm>
            <a:off x="4876920" y="3657600"/>
            <a:ext cx="2028600" cy="2362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2813040" y="1521000"/>
            <a:ext cx="9144000" cy="360"/>
          </a:xfrm>
          <a:prstGeom prst="rect">
            <a:avLst/>
          </a:prstGeom>
          <a:solidFill>
            <a:srgbClr val="ff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" descr="225px-John_D"/>
          <p:cNvPicPr/>
          <p:nvPr/>
        </p:nvPicPr>
        <p:blipFill>
          <a:blip r:embed="rId4"/>
          <a:stretch/>
        </p:blipFill>
        <p:spPr>
          <a:xfrm>
            <a:off x="7350120" y="3048120"/>
            <a:ext cx="1793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.  Credit Mobilier Construction Compan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tial stockholders of Union Pacific made contracts with themselves = Credit Mobi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d off congres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 from start to fi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prosec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.  Pacific Rail Road Act 186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Union Pacific and Central Pacific loans and land grants to continue extending tracks = Transcontinental 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mile laid 10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anscontinental railroad"/>
          <p:cNvPicPr/>
          <p:nvPr/>
        </p:nvPicPr>
        <p:blipFill>
          <a:blip r:embed="rId2"/>
          <a:stretch/>
        </p:blipFill>
        <p:spPr>
          <a:xfrm>
            <a:off x="2514600" y="3200400"/>
            <a:ext cx="461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3" descr="Image:Transcontinental railroad route2.png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.  RR: Spanning Time and Spa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ties of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Timeline11s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.  Workers of the R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454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n and Mex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wor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a day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900080" y="1620720"/>
            <a:ext cx="5343480" cy="3498840"/>
            <a:chOff x="1900080" y="1620720"/>
            <a:chExt cx="5343480" cy="3498840"/>
          </a:xfrm>
        </p:grpSpPr>
        <p:sp>
          <p:nvSpPr>
            <p:cNvPr id="143" name="Rectangle 6"/>
            <p:cNvSpPr/>
            <p:nvPr/>
          </p:nvSpPr>
          <p:spPr>
            <a:xfrm>
              <a:off x="1900080" y="1620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1900080" y="1620720"/>
              <a:ext cx="5343480" cy="34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" rIns="27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8" descr="X46214_6"/>
          <p:cNvPicPr/>
          <p:nvPr/>
        </p:nvPicPr>
        <p:blipFill>
          <a:blip r:embed="rId1"/>
          <a:stretch/>
        </p:blipFill>
        <p:spPr>
          <a:xfrm>
            <a:off x="5410080" y="2057400"/>
            <a:ext cx="3733920" cy="295416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9"/>
          <p:cNvGrpSpPr/>
          <p:nvPr/>
        </p:nvGrpSpPr>
        <p:grpSpPr>
          <a:xfrm>
            <a:off x="2057400" y="2057400"/>
            <a:ext cx="4552920" cy="2629080"/>
            <a:chOff x="2057400" y="2057400"/>
            <a:chExt cx="4552920" cy="2629080"/>
          </a:xfrm>
        </p:grpSpPr>
        <p:sp>
          <p:nvSpPr>
            <p:cNvPr id="147" name="Rectangle 10"/>
            <p:cNvSpPr/>
            <p:nvPr/>
          </p:nvSpPr>
          <p:spPr>
            <a:xfrm>
              <a:off x="2057400" y="2057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2057400" y="2057400"/>
              <a:ext cx="4552920" cy="26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" rIns="27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Picture 12" descr="2RAILROA_12"/>
          <p:cNvPicPr/>
          <p:nvPr/>
        </p:nvPicPr>
        <p:blipFill>
          <a:blip r:embed="rId2"/>
          <a:stretch/>
        </p:blipFill>
        <p:spPr>
          <a:xfrm>
            <a:off x="762120" y="332100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.  Workers of the R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Pacific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igrants from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better than their nonwhite counter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Union Pacific workers eat at their camp in Utah's Uinta Mountains."/>
          <p:cNvPicPr/>
          <p:nvPr/>
        </p:nvPicPr>
        <p:blipFill>
          <a:blip r:embed="rId1"/>
          <a:stretch/>
        </p:blipFill>
        <p:spPr>
          <a:xfrm>
            <a:off x="533520" y="2558880"/>
            <a:ext cx="4572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.  Standardized Time Zones 1918 created by the American Railway Associ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Picture 6" descr="Image:Timezoneswest.PNG"/>
          <p:cNvPicPr/>
          <p:nvPr/>
        </p:nvPicPr>
        <p:blipFill>
          <a:blip r:embed="rId1"/>
          <a:stretch/>
        </p:blipFill>
        <p:spPr>
          <a:xfrm>
            <a:off x="3220920" y="1600200"/>
            <a:ext cx="3883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.  Last Spike: 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montory Summit, Uta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transcontinental railroad"/>
          <p:cNvPicPr/>
          <p:nvPr/>
        </p:nvPicPr>
        <p:blipFill>
          <a:blip r:embed="rId1"/>
          <a:stretch/>
        </p:blipFill>
        <p:spPr>
          <a:xfrm>
            <a:off x="1981080" y="1981080"/>
            <a:ext cx="6272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.  RR Spur Growth:  Opportun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05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owns dev. Along RR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d products to passe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s specialized in specif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1426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y Stimulated: raw materials for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Consolidation of R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ius Vanderb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 and Chic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0-12T19:35:51Z</dcterms:modified>
  <cp:revision>16</cp:revision>
  <dc:subject/>
  <dc:title>PowerPoint Presentation</dc:title>
</cp:coreProperties>
</file>